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1" name="PlaceHolder 2"/>
          <p:cNvSpPr>
            <a:spLocks noGrp="1"/>
          </p:cNvSpPr>
          <p:nvPr>
            <p:ph/>
          </p:nvPr>
        </p:nvSpPr>
        <p:spPr>
          <a:xfrm>
            <a:off x="990720" y="1981080"/>
            <a:ext cx="716256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4"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9" name="PlaceHolder 2"/>
          <p:cNvSpPr>
            <a:spLocks noGrp="1"/>
          </p:cNvSpPr>
          <p:nvPr>
            <p:ph/>
          </p:nvPr>
        </p:nvSpPr>
        <p:spPr>
          <a:xfrm>
            <a:off x="990720" y="1981080"/>
            <a:ext cx="230616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3412440" y="1981080"/>
            <a:ext cx="230616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5834520" y="1981080"/>
            <a:ext cx="230616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5"/>
          <p:cNvSpPr>
            <a:spLocks noGrp="1"/>
          </p:cNvSpPr>
          <p:nvPr>
            <p:ph/>
          </p:nvPr>
        </p:nvSpPr>
        <p:spPr>
          <a:xfrm>
            <a:off x="990720" y="4130640"/>
            <a:ext cx="230616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6"/>
          <p:cNvSpPr>
            <a:spLocks noGrp="1"/>
          </p:cNvSpPr>
          <p:nvPr>
            <p:ph/>
          </p:nvPr>
        </p:nvSpPr>
        <p:spPr>
          <a:xfrm>
            <a:off x="3412440" y="4130640"/>
            <a:ext cx="230616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7"/>
          <p:cNvSpPr>
            <a:spLocks noGrp="1"/>
          </p:cNvSpPr>
          <p:nvPr>
            <p:ph/>
          </p:nvPr>
        </p:nvSpPr>
        <p:spPr>
          <a:xfrm>
            <a:off x="5834520" y="4130640"/>
            <a:ext cx="230616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0" name="PlaceHolder 2"/>
          <p:cNvSpPr>
            <a:spLocks noGrp="1"/>
          </p:cNvSpPr>
          <p:nvPr>
            <p:ph type="subTitle"/>
          </p:nvPr>
        </p:nvSpPr>
        <p:spPr>
          <a:xfrm>
            <a:off x="990720" y="1981080"/>
            <a:ext cx="71625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4"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9"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3"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7"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4"/>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996840" y="615960"/>
            <a:ext cx="7150320" cy="11304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lick to edit the title text format</a:t>
            </a:r>
            <a:endParaRPr b="1" i="1" lang="en-US" sz="2800" spc="-1" strike="noStrike">
              <a:solidFill>
                <a:srgbClr val="000000"/>
              </a:solidFill>
              <a:latin typeface="Arial"/>
            </a:endParaRPr>
          </a:p>
        </p:txBody>
      </p:sp>
      <p:sp>
        <p:nvSpPr>
          <p:cNvPr id="2" name="PlaceHolder 2"/>
          <p:cNvSpPr>
            <a:spLocks noGrp="1"/>
          </p:cNvSpPr>
          <p:nvPr>
            <p:ph type="body"/>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85840" indent="-285840">
              <a:lnSpc>
                <a:spcPct val="90000"/>
              </a:lnSpc>
              <a:spcBef>
                <a:spcPts val="901"/>
              </a:spcBef>
              <a:buClr>
                <a:srgbClr val="000000"/>
              </a:buClr>
              <a:buFont typeface="Arial"/>
              <a:buChar char=" "/>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a:off x="463680" y="1143000"/>
            <a:ext cx="52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57200" y="1149480"/>
            <a:ext cx="0" cy="547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463680" y="6629400"/>
            <a:ext cx="821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686800" y="1149480"/>
            <a:ext cx="0" cy="547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8159760" y="1143000"/>
            <a:ext cx="52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7620120" y="6553080"/>
            <a:ext cx="116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NBF 1998</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80. ARRANGERENDE ORGANISASJON</a:t>
            </a:r>
            <a:endParaRPr b="1" i="1" lang="en-US" sz="2800" spc="-1" strike="noStrike">
              <a:solidFill>
                <a:srgbClr val="000000"/>
              </a:solidFill>
              <a:latin typeface="Arial"/>
            </a:endParaRPr>
          </a:p>
        </p:txBody>
      </p:sp>
      <p:sp>
        <p:nvSpPr>
          <p:cNvPr id="4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En arrangerende organisasjon som leder en turnering i samsvar med disse lover, har følgende plikter og myndighet:</a:t>
            </a:r>
            <a:endParaRPr b="1" lang="en-US" sz="20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URNERINGSLED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å oppnevne turneringsleder. Hvis det ikke finnes noen TL, bør spillerne peke ut en fra sine egne rekker til å utføre hans funksjoner.</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FORHÅNDSARRANGEMEN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å forberede arrangementet av turneringen, innbefattet spillelokaler, innkvartering og utstyr.</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SPILLETID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å fastsette dag og klokkeslett for hver omgang.</a:t>
            </a:r>
            <a:endParaRPr b="1"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84. AVGJØRELSER I UOMTVISTEDE SAKSFORHOLD</a:t>
            </a:r>
            <a:endParaRPr b="1" i="1" lang="en-US" sz="2800" spc="-1" strike="noStrike">
              <a:solidFill>
                <a:srgbClr val="000000"/>
              </a:solidFill>
              <a:latin typeface="Arial"/>
            </a:endParaRPr>
          </a:p>
        </p:txBody>
      </p:sp>
      <p:sp>
        <p:nvSpPr>
          <p:cNvPr id="6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Når turneringslederen blir tilkalt for å avgjøre et spørsmål   i forbindelse med lover eller bestemmelser, og det råder enighet om selve saksforholdet, skal TL dømme på følgende måte:</a:t>
            </a:r>
            <a:endParaRPr b="1" lang="en-US" sz="20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INGEN STRAF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t ikke er foreskrevet noen straff i lovene, og det ikke er noen grunn til at turneringslederen skal bruke sin myndighet til skjønnsmessig avgjørelse, gir TL spillerne beskjed om å fortsette meldingsforløpet eller spillet.</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TRAFF IFØLGE LOVEN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t gitt tilfelle klart faller inn under en paragraf som fastsetter en bestemt straff for uregelmessigheten, tildeler turneringslederen denne straffen og påser at den blir oppfylt.</a:t>
            </a:r>
            <a:endParaRPr b="1"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84. AVGJØRELSER I UOMTVISTEDE SAKSFORHOLD</a:t>
            </a:r>
            <a:endParaRPr b="1" i="1" lang="en-US" sz="2800" spc="-1" strike="noStrike">
              <a:solidFill>
                <a:srgbClr val="000000"/>
              </a:solidFill>
              <a:latin typeface="Arial"/>
            </a:endParaRPr>
          </a:p>
        </p:txBody>
      </p:sp>
      <p:sp>
        <p:nvSpPr>
          <p:cNvPr id="6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87000"/>
          </a:bodyPr>
          <a:p>
            <a:pPr marL="24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SPILLEREN HAR FLERE VALGMULIGHETER</a:t>
            </a:r>
            <a:endParaRPr b="1" lang="en-US" sz="2400" spc="-1" strike="noStrike">
              <a:solidFill>
                <a:srgbClr val="000000"/>
              </a:solidFill>
              <a:latin typeface="Arial"/>
            </a:endParaRPr>
          </a:p>
          <a:p>
            <a:pPr lvl="1" marL="596520" indent="-19872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gitt paragraf gir en spiller et valg mellom flere former for straff, forklarer turneringslederen valgmulighetene og påser at én bestemt straff blir valgt og oppfylt.</a:t>
            </a:r>
            <a:endParaRPr b="1" lang="en-US" sz="1800" spc="-1" strike="noStrike">
              <a:solidFill>
                <a:srgbClr val="000000"/>
              </a:solidFill>
              <a:latin typeface="Arial"/>
            </a:endParaRPr>
          </a:p>
          <a:p>
            <a:pPr marL="24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TURNERINGSLEDEREN HAR FLERE VALGMULIGHETER</a:t>
            </a:r>
            <a:endParaRPr b="1" lang="en-US" sz="2400" spc="-1" strike="noStrike">
              <a:solidFill>
                <a:srgbClr val="000000"/>
              </a:solidFill>
              <a:latin typeface="Arial"/>
            </a:endParaRPr>
          </a:p>
          <a:p>
            <a:pPr lvl="1" marL="596520" indent="-19872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gitt paragraf gir turneringslederen et valg mellom å ilegge en bestemt straff eller å tildele et justert resultat, prøver TL å finne frem til et rettferdig resultat og dømmer, der hvor det er tvil, i den ikke-feilende sides favør.</a:t>
            </a:r>
            <a:endParaRPr b="1" lang="en-US" sz="1800" spc="-1" strike="noStrike">
              <a:solidFill>
                <a:srgbClr val="000000"/>
              </a:solidFill>
              <a:latin typeface="Arial"/>
            </a:endParaRPr>
          </a:p>
          <a:p>
            <a:pPr marL="24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SKJØNNSMESSIG STRAFF</a:t>
            </a:r>
            <a:endParaRPr b="1" lang="en-US" sz="2400" spc="-1" strike="noStrike">
              <a:solidFill>
                <a:srgbClr val="000000"/>
              </a:solidFill>
              <a:latin typeface="Arial"/>
            </a:endParaRPr>
          </a:p>
          <a:p>
            <a:pPr lvl="1" marL="596520" indent="-19872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t har skjedd en uregelmessighet som lovene ikke har fastsatt en bestemt straff for, tildeler turneringslederen et justert resultat dersom det finnes en rimelig mulighet for at den ikke-feilende side er påført skade, samtidig som TL gjør den feilende side oppmerksom på retten til å appellere.</a:t>
            </a:r>
            <a:endParaRPr b="1"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85 AVGJØRELSER I OMTVISTEDE SAKSFORHOLD</a:t>
            </a:r>
            <a:endParaRPr b="1" i="1" lang="en-US" sz="2800" spc="-1" strike="noStrike">
              <a:solidFill>
                <a:srgbClr val="000000"/>
              </a:solidFill>
              <a:latin typeface="Arial"/>
            </a:endParaRPr>
          </a:p>
        </p:txBody>
      </p:sp>
      <p:sp>
        <p:nvSpPr>
          <p:cNvPr id="6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7000"/>
          </a:bodyPr>
          <a:p>
            <a:pPr marL="27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Når turneringslederen blir tilkalt for å ta en avgjørelse i et spørsmål i forbindelse med lover eller bestemmelser, og det ikke er enighet om selve saksforholdet, skal TL gå frem på følgende måte:</a:t>
            </a:r>
            <a:endParaRPr b="1" lang="en-US" sz="2000" spc="-1" strike="noStrike">
              <a:solidFill>
                <a:srgbClr val="000000"/>
              </a:solidFill>
              <a:latin typeface="Arial"/>
            </a:endParaRPr>
          </a:p>
          <a:p>
            <a:pPr marL="27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URNERINGSLEDERENS VURDERING</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turneringslederen er overbevist om at selve saksforholdet er brakt på det rene, skal TL fatte en avgjørelse som beskrevet i §84.</a:t>
            </a:r>
            <a:endParaRPr b="1" lang="en-US" sz="1800" spc="-1" strike="noStrike">
              <a:solidFill>
                <a:srgbClr val="000000"/>
              </a:solidFill>
              <a:latin typeface="Arial"/>
            </a:endParaRPr>
          </a:p>
          <a:p>
            <a:pPr marL="27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SAKSFORHOLDET IKKE ER KLARLAGT</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turneringslederen ikke er i stand til å bringe saksforholdet på det rene til sin fulle tilfredshet, skal TL fatte en avgjørelse som gjør det mulig å fortsette spillet, og gjøre spillerne oppmerksom på at de har rett til å appellere.</a:t>
            </a:r>
            <a:endParaRPr b="1"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86. JUSTERT RESULTAT I LAGTURNERINGER</a:t>
            </a:r>
            <a:endParaRPr b="1" i="1" lang="en-US" sz="2800" spc="-1" strike="noStrike">
              <a:solidFill>
                <a:srgbClr val="000000"/>
              </a:solidFill>
              <a:latin typeface="Arial"/>
            </a:endParaRPr>
          </a:p>
        </p:txBody>
      </p:sp>
      <p:sp>
        <p:nvSpPr>
          <p:cNvPr id="7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MIDDELSCORE VED IMP-BEREGNING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urneringslederen velger å fastsette poeng direkte i form av 60% (se §84**) til en ikke-feilende deltager i en lagturnering, er dette 3 IMP.</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84E: Hvis det har skjedd en uregelmessighet som lovene ikke har fastsatt en bestemt straff for, tildeler turneringslederen et justert resultat dersom det finnes en rimelig mulighet for at den ikke-feilende side er påført skade, samtidig som TL gjør den feilende side oppmerksom på retten til å appellere.</a:t>
            </a:r>
            <a:endParaRPr b="1"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86. JUSTERT RESULTAT I LAGTURNERINGER</a:t>
            </a:r>
            <a:endParaRPr b="1" i="1" lang="en-US" sz="2800" spc="-1" strike="noStrike">
              <a:solidFill>
                <a:srgbClr val="000000"/>
              </a:solidFill>
              <a:latin typeface="Arial"/>
            </a:endParaRPr>
          </a:p>
        </p:txBody>
      </p:sp>
      <p:sp>
        <p:nvSpPr>
          <p:cNvPr id="7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KORRIGERTE SCORER SOM IKKE BALANSERER I KAMPER ETTER UTSLAGSMETOD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urneringslederen tildeler korrigerte scorer som ikke balanserer hverandre (se §12C**) i kamper etter utslagsmetoden, blir resultatet for hver deltager regnet ut særskilt for vedkommende spill. Deretter blir gjennomsnittet av de to resultatene tildelt begge deltagerne.</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Utdrag av §12C: Når turneringslederen fastsetter en korrigert score i stedet for den score som faktisk er oppnådd etter en uregelmessighet, er scoren for den ikke-feilende side den gunstigste score som ville vært rimelig dersom uregelmessigheten ikke hadde skjedd - og for den feilende side den mest ugunstige som i det hele tatt ville være sannsynlig. Scoren som tildeles de to sidene, behøver ikke balansere hverandre.</a:t>
            </a:r>
            <a:endParaRPr b="1"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86. JUSTERT RESULTAT I LAGTURNERINGER</a:t>
            </a:r>
            <a:endParaRPr b="1" i="1" lang="en-US" sz="2800" spc="-1" strike="noStrike">
              <a:solidFill>
                <a:srgbClr val="000000"/>
              </a:solidFill>
              <a:latin typeface="Arial"/>
            </a:endParaRPr>
          </a:p>
        </p:txBody>
      </p:sp>
      <p:sp>
        <p:nvSpPr>
          <p:cNvPr id="7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UTSKIFTING AV SPILL</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skal ikke anvende sin myndighet til å forlange omgiv av et bestemt spill ifølge §6 når resultatet av kampen, uten dette spillet, kan være kjent for deltagerne. I stedet tildeles et justert resultat.</a:t>
            </a:r>
            <a:endParaRPr b="1"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87. FEILSORTERT MAPPE</a:t>
            </a:r>
            <a:endParaRPr b="1" i="1" lang="en-US" sz="2800" spc="-1" strike="noStrike">
              <a:solidFill>
                <a:srgbClr val="000000"/>
              </a:solidFill>
              <a:latin typeface="Arial"/>
            </a:endParaRPr>
          </a:p>
        </p:txBody>
      </p:sp>
      <p:sp>
        <p:nvSpPr>
          <p:cNvPr id="7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3000"/>
          </a:bodyPr>
          <a:p>
            <a:pPr marL="265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EFINISJON</a:t>
            </a:r>
            <a:endParaRPr b="1" lang="en-US" sz="24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appe betraktes som "feilsortert" hvis turneringslederen finnet at ett eller flere kort er lagt på feil plass i mappen, slik at deltagerne, hvis scorer skal sammenlignes direkte, ikke har spilt spillet i nøyaktig samme form.</a:t>
            </a:r>
            <a:endParaRPr b="1" lang="en-US" sz="1800" spc="-1" strike="noStrike">
              <a:solidFill>
                <a:srgbClr val="000000"/>
              </a:solidFill>
              <a:latin typeface="Arial"/>
            </a:endParaRPr>
          </a:p>
          <a:p>
            <a:pPr marL="265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TREGNING AV FEILSORTERT MAPPE</a:t>
            </a:r>
            <a:endParaRPr b="1" lang="en-US" sz="24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urneringslederen regner ut poengene for en feilsortert mappe, bringes det på det rene så langt som det er mulig hvilke scorer som er gjort på spillets korrekte form, og hvilke på den forandrede form. På dette grunnlag deler TL scorene i to grupper, og regner ut hver gruppe for seg i samsvar med bestemmelsene som er gitt av den arrangerende organisasjon**.</a:t>
            </a:r>
            <a:endParaRPr b="1" lang="en-US" sz="1800" spc="-1" strike="noStrike">
              <a:solidFill>
                <a:srgbClr val="000000"/>
              </a:solidFill>
              <a:latin typeface="Arial"/>
            </a:endParaRPr>
          </a:p>
          <a:p>
            <a:pPr lvl="1" marL="637560" indent="-2124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et spill av en eller annen grunn må regnes ut i to eller flere grupper (f.eks. en feildublett) skal "toppen" i hver gruppe aldri være mindre enn 60% av høyest oppnåelige poeng dersom spillet var regnet i én gruppe.</a:t>
            </a:r>
            <a:endParaRPr b="1"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88. TILDELING AV ERSTATNINGSPOENG</a:t>
            </a:r>
            <a:endParaRPr b="1" i="1" lang="en-US" sz="2800" spc="-1" strike="noStrike">
              <a:solidFill>
                <a:srgbClr val="000000"/>
              </a:solidFill>
              <a:latin typeface="Arial"/>
            </a:endParaRPr>
          </a:p>
        </p:txBody>
      </p:sp>
      <p:sp>
        <p:nvSpPr>
          <p:cNvPr id="7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Når en ikke-feilende deltager i en par- eller singelturnering må godta en prosentvis tildeling av poeng uten selv å ha begått noen feil og uten å ha noen valgmulighet, skal en slik deltager tildeles minimum 60% av det totale antall poeng deltageren kunne ha oppnådd på dette spillet, eller en så høy prosentandel av poengene som deltageren oppnådde som faktisk resultat på de øvrige spillene i vedkommende omgang, dersom denne prosentandelen var høyere enn 60%.</a:t>
            </a:r>
            <a:endParaRPr b="1"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89. STRAFFEBESTEMMELSER FOR SINGELTURNERINGER</a:t>
            </a:r>
            <a:endParaRPr b="1" i="1" lang="en-US" sz="2800" spc="-1" strike="noStrike">
              <a:solidFill>
                <a:srgbClr val="000000"/>
              </a:solidFill>
              <a:latin typeface="Arial"/>
            </a:endParaRPr>
          </a:p>
        </p:txBody>
      </p:sp>
      <p:sp>
        <p:nvSpPr>
          <p:cNvPr id="8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I singelturneringer skal turneringslederen håndheve både straffebestemmelsene som er gitt i disse lovene, og bestemmelsene om tildeling av justerte resultater, i samme utstrekning mot begge spillere på den feilende side, selv om bare én av dem skulle være ansvarlig for uregelmessigheten. Men når TL tildeler justert resultat, skal det ikke tildeles straffepoeng mot den feilendes makker, hvis denne etter Tls mening ikke har noe ansvar for lovbruddet.</a:t>
            </a:r>
            <a:endParaRPr b="1"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90. DISIPLINÆRSTRAFF</a:t>
            </a:r>
            <a:endParaRPr b="1" i="1" lang="en-US" sz="2800" spc="-1" strike="noStrike">
              <a:solidFill>
                <a:srgbClr val="000000"/>
              </a:solidFill>
              <a:latin typeface="Arial"/>
            </a:endParaRPr>
          </a:p>
        </p:txBody>
      </p:sp>
      <p:sp>
        <p:nvSpPr>
          <p:cNvPr id="8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3000"/>
          </a:bodyPr>
          <a:p>
            <a:pPr marL="265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URNERINGSLEDERENS MYNDIGHET</a:t>
            </a:r>
            <a:endParaRPr b="1" lang="en-US" sz="24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 tillegg til å gjennomføre straffebestemmelsene i disse lovene kan TL også tildele straff for enhver forseelse som unødig hindrer eller forsinker spillet, sjenerer andre deltagere, bryter mot korrekt fremgangsmåte, eller krever at det tildeles justert resultat ved et annet bord.</a:t>
            </a:r>
            <a:endParaRPr b="1" lang="en-US" sz="1800" spc="-1" strike="noStrike">
              <a:solidFill>
                <a:srgbClr val="000000"/>
              </a:solidFill>
              <a:latin typeface="Arial"/>
            </a:endParaRPr>
          </a:p>
          <a:p>
            <a:pPr marL="265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FORSEELSER SOM KAN BLI GJENSTAND FOR STRAFF</a:t>
            </a:r>
            <a:endParaRPr b="1" lang="en-US" sz="24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seelser som kan bli gjort gjenstand for straff, omfatter følgende - men er ikke begrenset til:</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KOMME FOR SENT</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deltager ankommer etter den kunngjorte starttid.</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LANGSOMT SPILL</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deltager spiller unødig langsomt.</a:t>
            </a:r>
            <a:endParaRPr b="1"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80. ARRANGERENDE ORGANISASJON</a:t>
            </a:r>
            <a:endParaRPr b="1" i="1" lang="en-US" sz="2800" spc="-1" strike="noStrike">
              <a:solidFill>
                <a:srgbClr val="000000"/>
              </a:solidFill>
              <a:latin typeface="Arial"/>
            </a:endParaRPr>
          </a:p>
        </p:txBody>
      </p:sp>
      <p:sp>
        <p:nvSpPr>
          <p:cNvPr id="4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PÅMELDINGSVILKÅ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å fastsette påmeldingsvilkår.</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SPESIELLE FORHOL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å fastsette spesielle betingelser for meldinger og spill </a:t>
            </a:r>
            <a:r>
              <a:rPr b="0" i="1" lang="nb-NO" sz="1800" spc="-1" strike="noStrike">
                <a:solidFill>
                  <a:srgbClr val="000000"/>
                </a:solidFill>
                <a:latin typeface="Arial"/>
              </a:rPr>
              <a:t>(som for eksempel skrevne meldinger, meldebokser, skjermer - straffebestemmelser for handlinger som ikke overføres gjennom en skjerm, kan i så fall suspenderes)</a:t>
            </a:r>
            <a:r>
              <a:rPr b="1" lang="nb-NO" sz="1800" spc="-1" strike="noStrike">
                <a:solidFill>
                  <a:srgbClr val="000000"/>
                </a:solidFill>
                <a:latin typeface="Arial"/>
              </a:rPr>
              <a:t>.</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 TILLEGGSBESTEMMELS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å offentliggjøre eller meddele bestemmelser som kan supplere, men ikke stå i strid med disse lovene.</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G APPELLER</a:t>
            </a:r>
            <a:endParaRPr b="1" lang="en-US" sz="2400" spc="-1" strike="noStrike">
              <a:solidFill>
                <a:srgbClr val="000000"/>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å sørge for at det finnes en appellkomité.</a:t>
            </a:r>
            <a:endParaRPr b="1"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90. DISIPLINÆRSTRAFF</a:t>
            </a:r>
            <a:endParaRPr b="1" i="1" lang="en-US" sz="2800" spc="-1" strike="noStrike">
              <a:solidFill>
                <a:srgbClr val="000000"/>
              </a:solidFill>
              <a:latin typeface="Arial"/>
            </a:endParaRPr>
          </a:p>
        </p:txBody>
      </p:sp>
      <p:sp>
        <p:nvSpPr>
          <p:cNvPr id="8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HØYLYTT DISKUSJ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enhver diskusjon om meldinger, spill eller resultat av en mappe når diskusjonen kan høres ved et annet bor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SAMMENLIGNING AV SCOR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enhver sammenligning av scorer med en annen deltager så lenge vedkommende omgang pågår**.</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Barometerturneringer og lignende turneringer er unntatt.</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BERØRING AV ANNEN SPILLERS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enhver berøring eller behandling av kort som tilhører en annen spiller (§7).</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6.</a:t>
            </a:r>
            <a:r>
              <a:rPr b="1" lang="nb-NO" sz="1800" spc="-1" strike="noStrike">
                <a:solidFill>
                  <a:srgbClr val="000000"/>
                </a:solidFill>
                <a:latin typeface="Arial"/>
              </a:rPr>
              <a:t>	</a:t>
            </a:r>
            <a:r>
              <a:rPr b="1" lang="nb-NO" sz="1800" spc="-1" strike="noStrike">
                <a:solidFill>
                  <a:srgbClr val="000000"/>
                </a:solidFill>
                <a:latin typeface="Arial"/>
              </a:rPr>
              <a:t>LEGGE KORTENE FEIL I MAPP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tt eller flere kort plasseres i feil lomme på mappen.</a:t>
            </a:r>
            <a:endParaRPr b="1"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90. DISIPLINÆRSTRAFF</a:t>
            </a:r>
            <a:endParaRPr b="1" i="1" lang="en-US" sz="2800" spc="-1" strike="noStrike">
              <a:solidFill>
                <a:srgbClr val="000000"/>
              </a:solidFill>
              <a:latin typeface="Arial"/>
            </a:endParaRPr>
          </a:p>
        </p:txBody>
      </p:sp>
      <p:sp>
        <p:nvSpPr>
          <p:cNvPr id="8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7.</a:t>
            </a:r>
            <a:r>
              <a:rPr b="1" lang="nb-NO" sz="1800" spc="-1" strike="noStrike">
                <a:solidFill>
                  <a:srgbClr val="000000"/>
                </a:solidFill>
                <a:latin typeface="Arial"/>
              </a:rPr>
              <a:t>	</a:t>
            </a:r>
            <a:r>
              <a:rPr b="1" lang="nb-NO" sz="1800" spc="-1" strike="noStrike">
                <a:solidFill>
                  <a:srgbClr val="000000"/>
                </a:solidFill>
                <a:latin typeface="Arial"/>
              </a:rPr>
              <a:t>FEIL I FREMGANGSMÅT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enhver feil i fremgangsmåten </a:t>
            </a:r>
            <a:r>
              <a:rPr b="0" i="1" lang="nb-NO" sz="1800" spc="-1" strike="noStrike">
                <a:solidFill>
                  <a:srgbClr val="000000"/>
                </a:solidFill>
                <a:latin typeface="Arial"/>
              </a:rPr>
              <a:t>(som for eksempel unnlatelse av å telle kortene på hånden, spill av feil mappe osv.)</a:t>
            </a:r>
            <a:r>
              <a:rPr b="0" lang="nb-NO" sz="1800" spc="-1" strike="noStrike">
                <a:solidFill>
                  <a:srgbClr val="000000"/>
                </a:solidFill>
                <a:latin typeface="Arial"/>
              </a:rPr>
              <a:t> som medfører at noen av deltagerne får tildelt justert result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8.</a:t>
            </a:r>
            <a:r>
              <a:rPr b="1" lang="nb-NO" sz="1800" spc="-1" strike="noStrike">
                <a:solidFill>
                  <a:srgbClr val="000000"/>
                </a:solidFill>
                <a:latin typeface="Arial"/>
              </a:rPr>
              <a:t>	</a:t>
            </a:r>
            <a:r>
              <a:rPr b="1" lang="nb-NO" sz="1800" spc="-1" strike="noStrike">
                <a:solidFill>
                  <a:srgbClr val="000000"/>
                </a:solidFill>
                <a:latin typeface="Arial"/>
              </a:rPr>
              <a:t>UNNLATELSE AV Å FØYE SEG ETTER BESTEMMELSER OG INSTRUKS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enhver unnlatelse av omgående å føye seg etter bestemmelsene for turneringen eller instrukser fra turneringslederen.</a:t>
            </a:r>
            <a:endParaRPr b="1"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91. STRAFF ELLER UTELUKKELSE</a:t>
            </a:r>
            <a:endParaRPr b="1" i="1" lang="en-US" sz="2800" spc="-1" strike="noStrike">
              <a:solidFill>
                <a:srgbClr val="000000"/>
              </a:solidFill>
              <a:latin typeface="Arial"/>
            </a:endParaRPr>
          </a:p>
        </p:txBody>
      </p:sp>
      <p:sp>
        <p:nvSpPr>
          <p:cNvPr id="8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8000"/>
          </a:bodyPr>
          <a:p>
            <a:pPr marL="280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URNERINGSLEDERENS MYNDIGHET</a:t>
            </a:r>
            <a:endParaRPr b="1" lang="en-US" sz="24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 utførelsen av sine plikter har turneringslederen spesielle myndigheter når det gjelder å sørge for orden og disiplin, slik at TL kan tildele disiplinærstraff i form av straffepoeng, eller utelukke en deltager fra den pågående omgang eller deler av den </a:t>
            </a:r>
            <a:r>
              <a:rPr b="0" i="1" lang="nb-NO" sz="1800" spc="-1" strike="noStrike">
                <a:solidFill>
                  <a:srgbClr val="000000"/>
                </a:solidFill>
                <a:latin typeface="Arial"/>
              </a:rPr>
              <a:t>(TLs myndighet på dette punkt er inappellabel)</a:t>
            </a:r>
            <a:r>
              <a:rPr b="1" lang="nb-NO" sz="1800" spc="-1" strike="noStrike">
                <a:solidFill>
                  <a:srgbClr val="000000"/>
                </a:solidFill>
                <a:latin typeface="Arial"/>
              </a:rPr>
              <a:t>.</a:t>
            </a:r>
            <a:endParaRPr b="1" lang="en-US" sz="1800" spc="-1" strike="noStrike">
              <a:solidFill>
                <a:srgbClr val="000000"/>
              </a:solidFill>
              <a:latin typeface="Arial"/>
            </a:endParaRPr>
          </a:p>
          <a:p>
            <a:pPr marL="280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RETT TIL Å DISKVALIFISERE</a:t>
            </a:r>
            <a:endParaRPr b="1" lang="en-US" sz="24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har særskilt myndighet til å diskvalifisere en deltager når det foreligger grunn til det. Diskvalifiseringen må godkjennes av en eventuell hovedturneringsleder** eller av den arrangerende organisasjon.</a:t>
            </a:r>
            <a:endParaRPr b="1" lang="en-US" sz="1800" spc="-1" strike="noStrike">
              <a:solidFill>
                <a:srgbClr val="000000"/>
              </a:solidFill>
              <a:latin typeface="Arial"/>
            </a:endParaRPr>
          </a:p>
          <a:p>
            <a:pPr lvl="1" marL="671760" indent="-22392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I større turneringer hvor det er flere turneringsledere, skal én turneringsleder være hovedansvarlig, mens de andre er hans assistenter.</a:t>
            </a:r>
            <a:endParaRPr b="1"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92. RETTEN TIL Å APPELLERE</a:t>
            </a:r>
            <a:endParaRPr b="1" i="1" lang="en-US" sz="2800" spc="-1" strike="noStrike">
              <a:solidFill>
                <a:srgbClr val="000000"/>
              </a:solidFill>
              <a:latin typeface="Arial"/>
            </a:endParaRPr>
          </a:p>
        </p:txBody>
      </p:sp>
      <p:sp>
        <p:nvSpPr>
          <p:cNvPr id="90" name="PlaceHolder 2"/>
          <p:cNvSpPr>
            <a:spLocks noGrp="1"/>
          </p:cNvSpPr>
          <p:nvPr>
            <p:ph/>
          </p:nvPr>
        </p:nvSpPr>
        <p:spPr>
          <a:xfrm>
            <a:off x="837720" y="1905120"/>
            <a:ext cx="7162920" cy="4114800"/>
          </a:xfrm>
          <a:prstGeom prst="rect">
            <a:avLst/>
          </a:prstGeom>
          <a:noFill/>
          <a:ln w="0">
            <a:noFill/>
          </a:ln>
        </p:spPr>
        <p:txBody>
          <a:bodyPr lIns="90360" rIns="90360" tIns="44280" bIns="44280" anchor="t">
            <a:normAutofit fontScale="92000"/>
          </a:bodyPr>
          <a:p>
            <a:pPr marL="262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ELTAGERNES RETT</a:t>
            </a:r>
            <a:endParaRPr b="1" lang="en-US" sz="2400" spc="-1" strike="noStrike">
              <a:solidFill>
                <a:srgbClr val="000000"/>
              </a:solidFill>
              <a:latin typeface="Arial"/>
            </a:endParaRPr>
          </a:p>
          <a:p>
            <a:pPr lvl="1" marL="630720" indent="-21024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deltager eller deltagerens lagkaptein kan appellere enhver avgjørelse turneringslederen har tatt ved vedkommendes bord.</a:t>
            </a:r>
            <a:endParaRPr b="1" lang="en-US" sz="1800" spc="-1" strike="noStrike">
              <a:solidFill>
                <a:srgbClr val="000000"/>
              </a:solidFill>
              <a:latin typeface="Arial"/>
            </a:endParaRPr>
          </a:p>
          <a:p>
            <a:pPr marL="262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TIDSFRIST FOR APPELL</a:t>
            </a:r>
            <a:endParaRPr b="1" lang="en-US" sz="2400" spc="-1" strike="noStrike">
              <a:solidFill>
                <a:srgbClr val="000000"/>
              </a:solidFill>
              <a:latin typeface="Arial"/>
            </a:endParaRPr>
          </a:p>
          <a:p>
            <a:pPr lvl="1" marL="630720" indent="-21024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hver appell på en avgjørelse av turneringslederen må gjøres innen den tidsfrist som er fastsatt ifølge §79C**.</a:t>
            </a:r>
            <a:endParaRPr b="1" lang="en-US" sz="1800" spc="-1" strike="noStrike">
              <a:solidFill>
                <a:srgbClr val="000000"/>
              </a:solidFill>
              <a:latin typeface="Arial"/>
            </a:endParaRPr>
          </a:p>
          <a:p>
            <a:pPr lvl="1" marL="630720" indent="-210240">
              <a:lnSpc>
                <a:spcPct val="90000"/>
              </a:lnSpc>
              <a:spcBef>
                <a:spcPts val="34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Tidsfristen er normalt 30 minutter dersom arrangøren ikke har bestemt noe annet.</a:t>
            </a:r>
            <a:endParaRPr b="1" lang="en-US" sz="1400" spc="-1" strike="noStrike">
              <a:solidFill>
                <a:srgbClr val="000000"/>
              </a:solidFill>
              <a:latin typeface="Arial"/>
            </a:endParaRPr>
          </a:p>
          <a:p>
            <a:pPr marL="262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HVORDAN APPELLEN ANMELDES</a:t>
            </a:r>
            <a:endParaRPr b="1" lang="en-US" sz="2400" spc="-1" strike="noStrike">
              <a:solidFill>
                <a:srgbClr val="000000"/>
              </a:solidFill>
              <a:latin typeface="Arial"/>
            </a:endParaRPr>
          </a:p>
          <a:p>
            <a:pPr lvl="1" marL="630720" indent="-21024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Alle appeller skal gjøres gjennom turneringslederen.</a:t>
            </a:r>
            <a:endParaRPr b="1" lang="en-US" sz="1800" spc="-1" strike="noStrike">
              <a:solidFill>
                <a:srgbClr val="000000"/>
              </a:solidFill>
              <a:latin typeface="Arial"/>
            </a:endParaRPr>
          </a:p>
          <a:p>
            <a:pPr marL="262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ENIGHET BLANT DEM SOM APPELLERER</a:t>
            </a:r>
            <a:endParaRPr b="1" lang="en-US" sz="2400" spc="-1" strike="noStrike">
              <a:solidFill>
                <a:srgbClr val="000000"/>
              </a:solidFill>
              <a:latin typeface="Arial"/>
            </a:endParaRPr>
          </a:p>
          <a:p>
            <a:pPr lvl="1" marL="630720" indent="-21024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appell vil ikke bli prøvet med mindre begge spillere i et par </a:t>
            </a:r>
            <a:r>
              <a:rPr b="0" i="1" lang="nb-NO" sz="1800" spc="-1" strike="noStrike">
                <a:solidFill>
                  <a:srgbClr val="000000"/>
                </a:solidFill>
                <a:latin typeface="Arial"/>
              </a:rPr>
              <a:t>(unntatt i singelturneringer)</a:t>
            </a:r>
            <a:r>
              <a:rPr b="1" lang="nb-NO" sz="1800" spc="-1" strike="noStrike">
                <a:solidFill>
                  <a:srgbClr val="000000"/>
                </a:solidFill>
                <a:latin typeface="Arial"/>
              </a:rPr>
              <a:t>, eller kapteinen på et lag, er enige i appellen. En fraværende spiller skal betraktes som enig.</a:t>
            </a:r>
            <a:endParaRPr b="1"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93. FREMGANGSMÅTEN VED APPELLER</a:t>
            </a:r>
            <a:endParaRPr b="1" i="1" lang="en-US" sz="2800" spc="-1" strike="noStrike">
              <a:solidFill>
                <a:srgbClr val="000000"/>
              </a:solidFill>
              <a:latin typeface="Arial"/>
            </a:endParaRPr>
          </a:p>
        </p:txBody>
      </p:sp>
      <p:sp>
        <p:nvSpPr>
          <p:cNvPr id="92" name="PlaceHolder 2"/>
          <p:cNvSpPr>
            <a:spLocks noGrp="1"/>
          </p:cNvSpPr>
          <p:nvPr>
            <p:ph/>
          </p:nvPr>
        </p:nvSpPr>
        <p:spPr>
          <a:xfrm>
            <a:off x="990720" y="1828800"/>
            <a:ext cx="7162560" cy="4114800"/>
          </a:xfrm>
          <a:prstGeom prst="rect">
            <a:avLst/>
          </a:prstGeom>
          <a:noFill/>
          <a:ln w="0">
            <a:noFill/>
          </a:ln>
        </p:spPr>
        <p:txBody>
          <a:bodyPr lIns="90360" rIns="90360" tIns="44280" bIns="44280" anchor="t">
            <a:normAutofit fontScale="89000"/>
          </a:bodyPr>
          <a:p>
            <a:pPr marL="254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HVIS DET IKKE FINNES APPELLUTVALG</a:t>
            </a:r>
            <a:endParaRPr b="1" lang="en-US" sz="2400" spc="-1" strike="noStrike">
              <a:solidFill>
                <a:srgbClr val="000000"/>
              </a:solidFill>
              <a:latin typeface="Arial"/>
            </a:endParaRPr>
          </a:p>
          <a:p>
            <a:pPr lvl="1" marL="610200" indent="-203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t ikke fines noe appellutvalg </a:t>
            </a:r>
            <a:r>
              <a:rPr b="0" i="1" lang="nb-NO" sz="1800" spc="-1" strike="noStrike">
                <a:solidFill>
                  <a:srgbClr val="000000"/>
                </a:solidFill>
                <a:latin typeface="Arial"/>
              </a:rPr>
              <a:t>(eller turneringsutvalg)</a:t>
            </a:r>
            <a:r>
              <a:rPr b="1" lang="nb-NO" sz="1800" spc="-1" strike="noStrike">
                <a:solidFill>
                  <a:srgbClr val="000000"/>
                </a:solidFill>
                <a:latin typeface="Arial"/>
              </a:rPr>
              <a:t>, skal en eventuell hovedturneringsleder** behandle og ta avgjørelse om alle appeller. Det samme gjelder dersom appellutvalget ikke kan komme sammen uten at avviklingen av turneringen forstyrres.</a:t>
            </a:r>
            <a:endParaRPr b="1" lang="en-US" sz="1800" spc="-1" strike="noStrike">
              <a:solidFill>
                <a:srgbClr val="000000"/>
              </a:solidFill>
              <a:latin typeface="Arial"/>
            </a:endParaRPr>
          </a:p>
          <a:p>
            <a:pPr lvl="1" marL="610200" indent="-2034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I større turneringer hvor det er flere turneringsledere, skal én turneringsleder være hovedansvarlig, mens de andre er hans assistenter.</a:t>
            </a:r>
            <a:endParaRPr b="1" lang="en-US" sz="1400" spc="-1" strike="noStrike">
              <a:solidFill>
                <a:srgbClr val="000000"/>
              </a:solidFill>
              <a:latin typeface="Arial"/>
            </a:endParaRPr>
          </a:p>
          <a:p>
            <a:pPr marL="254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DET FINNES APPELLUTVALG</a:t>
            </a:r>
            <a:endParaRPr b="1" lang="en-US" sz="2400" spc="-1" strike="noStrike">
              <a:solidFill>
                <a:srgbClr val="000000"/>
              </a:solidFill>
              <a:latin typeface="Arial"/>
            </a:endParaRPr>
          </a:p>
          <a:p>
            <a:pPr lvl="1" marL="610200" indent="-203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t finnes appellutvalg, gjelder følgende fremgangsmåte:</a:t>
            </a:r>
            <a:endParaRPr b="1" lang="en-US" sz="1800" spc="-1" strike="noStrike">
              <a:solidFill>
                <a:srgbClr val="000000"/>
              </a:solidFill>
              <a:latin typeface="Arial"/>
            </a:endParaRPr>
          </a:p>
          <a:p>
            <a:pPr lvl="1" marL="610200" indent="-203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APPELLEN GJELDER LOVANVENDELSE</a:t>
            </a:r>
            <a:endParaRPr b="1" lang="en-US" sz="1800" spc="-1" strike="noStrike">
              <a:solidFill>
                <a:srgbClr val="000000"/>
              </a:solidFill>
              <a:latin typeface="Arial"/>
            </a:endParaRPr>
          </a:p>
          <a:p>
            <a:pPr lvl="1" marL="610200" indent="-203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ovedturneringsleder** skal behandle og ta avgjørelse om de deler av en appell som dreier seg utelukkende om lover eller reglement. hans avgjørelse kan appelleres til appellutvalget.</a:t>
            </a:r>
            <a:endParaRPr b="1" lang="en-US" sz="1800" spc="-1" strike="noStrike">
              <a:solidFill>
                <a:srgbClr val="000000"/>
              </a:solidFill>
              <a:latin typeface="Arial"/>
            </a:endParaRPr>
          </a:p>
          <a:p>
            <a:pPr lvl="1" marL="610200" indent="-2034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I større turneringer hvor det er flere turneringsledere, skal én turneringsleder være hovedansvarlig, mens de andre er hans assistenter.</a:t>
            </a:r>
            <a:endParaRPr b="1"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93. FREMGANGSMÅTEN VED APPELLER</a:t>
            </a:r>
            <a:endParaRPr b="1" i="1" lang="en-US" sz="2800" spc="-1" strike="noStrike">
              <a:solidFill>
                <a:srgbClr val="000000"/>
              </a:solidFill>
              <a:latin typeface="Arial"/>
            </a:endParaRPr>
          </a:p>
        </p:txBody>
      </p:sp>
      <p:sp>
        <p:nvSpPr>
          <p:cNvPr id="94" name="PlaceHolder 2"/>
          <p:cNvSpPr>
            <a:spLocks noGrp="1"/>
          </p:cNvSpPr>
          <p:nvPr>
            <p:ph/>
          </p:nvPr>
        </p:nvSpPr>
        <p:spPr>
          <a:xfrm>
            <a:off x="914040" y="1981080"/>
            <a:ext cx="7162920" cy="4114800"/>
          </a:xfrm>
          <a:prstGeom prst="rect">
            <a:avLst/>
          </a:prstGeom>
          <a:noFill/>
          <a:ln w="0">
            <a:noFill/>
          </a:ln>
        </p:spPr>
        <p:txBody>
          <a:bodyPr lIns="90360" rIns="90360" tIns="44280" bIns="44280" anchor="t">
            <a:normAutofit fontScale="96000"/>
          </a:bodyPr>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LLE ANDRE APPELLER</a:t>
            </a:r>
            <a:endParaRPr b="1" lang="en-US" sz="18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 skal henvise alle andre appeller til appellutvalget for avgjørelse der.</a:t>
            </a:r>
            <a:endParaRPr b="1" lang="en-US" sz="18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PRØVING AV APPELLER</a:t>
            </a:r>
            <a:endParaRPr b="1" lang="en-US" sz="18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prøving av appeller kan appellutvalget anvende all den myndighet som ifølge disse lovene er tillagt turneringslederen, med unntak av at appellutvalget ikke kan tilsidesette TLs avgjørelse i spørsmål som gjelder lover eller reglement, eller når det gjelder TLs myndighet til å ilegge disiplinærstraff. Utvalget kan anbefale TL å omgjøre sin avgjørelse.</a:t>
            </a:r>
            <a:endParaRPr b="1" lang="en-US" sz="1800" spc="-1" strike="noStrike">
              <a:solidFill>
                <a:srgbClr val="000000"/>
              </a:solidFill>
              <a:latin typeface="Arial"/>
            </a:endParaRPr>
          </a:p>
          <a:p>
            <a:pPr marL="2743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APPELL TIL NORSK BRIDGEFORBUND</a:t>
            </a:r>
            <a:endParaRPr b="1" lang="en-US" sz="24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de ovennevnte metoder er uttømt, kan det gjøres en ytterligere appell til Norsk Bridgeforbund**.</a:t>
            </a:r>
            <a:endParaRPr b="1" lang="en-US" sz="1800" spc="-1" strike="noStrike">
              <a:solidFill>
                <a:srgbClr val="000000"/>
              </a:solidFill>
              <a:latin typeface="Arial"/>
            </a:endParaRPr>
          </a:p>
          <a:p>
            <a:pPr lvl="1" marL="658080" indent="-21924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I Norsk Bridgeforbund er det Lovutvalget (LU) som behandler slike appeller. Appeller til LU skal anmeldes gjennom turneringslederen.</a:t>
            </a:r>
            <a:endParaRPr b="1"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81. TURNERINGSLEDERENS PLIKTER OG MYNDIGHET</a:t>
            </a:r>
            <a:endParaRPr b="1" i="1" lang="en-US" sz="2800" spc="-1" strike="noStrike">
              <a:solidFill>
                <a:srgbClr val="000000"/>
              </a:solidFill>
              <a:latin typeface="Arial"/>
            </a:endParaRPr>
          </a:p>
        </p:txBody>
      </p:sp>
      <p:sp>
        <p:nvSpPr>
          <p:cNvPr id="5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OFFISIELL STATU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er den offisielle representant for den arrangerende organisasjon.</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ANSVAR OG BEGRENSNING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TEKNISK LED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en har ansvaret for den tekniske ledelse av turnering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OVERHOLDELSE AV LOVER OG BESTEMMELS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en er bundet av nærværende lover og av tilleggsbestemmelser som er kunngjort av den arrangerende organisasjon.</a:t>
            </a:r>
            <a:endParaRPr b="1"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81. TURNERINGSLEDERENS PLIKTER OG MYNDIGHET</a:t>
            </a:r>
            <a:endParaRPr b="1" i="1" lang="en-US" sz="2800" spc="-1" strike="noStrike">
              <a:solidFill>
                <a:srgbClr val="000000"/>
              </a:solidFill>
              <a:latin typeface="Arial"/>
            </a:endParaRPr>
          </a:p>
        </p:txBody>
      </p:sp>
      <p:sp>
        <p:nvSpPr>
          <p:cNvPr id="5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3000"/>
          </a:bodyPr>
          <a:p>
            <a:pPr marL="265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PLIKTER OG MYNDIGHET</a:t>
            </a:r>
            <a:endParaRPr b="1" lang="en-US" sz="24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s plikter og myndighet vil normalt omfatte følgende:</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ASSISTENTER</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oppnevne assistenter i den utstrekning det kreves for utførelsen av vedkommendes plikter.</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PÅMELDING</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motta påmeldinger og sette opp fortegnelse over deltagerne.</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SPILLEFORHOLD</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sørge for at det vil være egnede spilleforhold, og gjøre deltagerne kjent med dem.</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DISIPLIN</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sørge for å holde disiplin, og passe på at spillet blir avviklet på en ordentlig måte.</a:t>
            </a:r>
            <a:endParaRPr b="1"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81. TURNERINGSLEDERENS PLIKTER OG MYNDIGHET</a:t>
            </a:r>
            <a:endParaRPr b="1" i="1" lang="en-US" sz="2800" spc="-1" strike="noStrike">
              <a:solidFill>
                <a:srgbClr val="000000"/>
              </a:solidFill>
              <a:latin typeface="Arial"/>
            </a:endParaRPr>
          </a:p>
        </p:txBody>
      </p:sp>
      <p:sp>
        <p:nvSpPr>
          <p:cNvPr id="5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9000"/>
          </a:bodyPr>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LOVENE</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sørge for at lovene blir etterlevd, samt fortolke dem og gi spillerne råd om deres rettigheter og ansvar etter lovene.</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6.</a:t>
            </a:r>
            <a:r>
              <a:rPr b="1" lang="nb-NO" sz="1800" spc="-1" strike="noStrike">
                <a:solidFill>
                  <a:srgbClr val="000000"/>
                </a:solidFill>
                <a:latin typeface="Arial"/>
              </a:rPr>
              <a:t>	</a:t>
            </a:r>
            <a:r>
              <a:rPr b="1" lang="nb-NO" sz="1800" spc="-1" strike="noStrike">
                <a:solidFill>
                  <a:srgbClr val="000000"/>
                </a:solidFill>
                <a:latin typeface="Arial"/>
              </a:rPr>
              <a:t>FEIL</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korrigere enhver feil eller uregelmessighet som spillerne på en eller annen måte blir klar over, innen utgangen av den korrigeringsfrist som er fastsatt i samsvar med §79C**.</a:t>
            </a:r>
            <a:endParaRPr b="1" lang="en-US" sz="1800" spc="-1" strike="noStrike">
              <a:solidFill>
                <a:srgbClr val="000000"/>
              </a:solidFill>
              <a:latin typeface="Arial"/>
            </a:endParaRPr>
          </a:p>
          <a:p>
            <a:pPr lvl="1" marL="678600" indent="-22608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Korrigeringsfristen er normalt 30 minutter dersom arrangøren ikke har bestemt noe annet.</a:t>
            </a:r>
            <a:endParaRPr b="1" lang="en-US" sz="1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7.</a:t>
            </a:r>
            <a:r>
              <a:rPr b="1" lang="nb-NO" sz="1800" spc="-1" strike="noStrike">
                <a:solidFill>
                  <a:srgbClr val="000000"/>
                </a:solidFill>
                <a:latin typeface="Arial"/>
              </a:rPr>
              <a:t>	</a:t>
            </a:r>
            <a:r>
              <a:rPr b="1" lang="nb-NO" sz="1800" spc="-1" strike="noStrike">
                <a:solidFill>
                  <a:srgbClr val="000000"/>
                </a:solidFill>
                <a:latin typeface="Arial"/>
              </a:rPr>
              <a:t>ILEGGELSE AV STRAFF</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ilegge straff når straff kommer til anvendelse.</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8.</a:t>
            </a:r>
            <a:r>
              <a:rPr b="1" lang="nb-NO" sz="1800" spc="-1" strike="noStrike">
                <a:solidFill>
                  <a:srgbClr val="000000"/>
                </a:solidFill>
                <a:latin typeface="Arial"/>
              </a:rPr>
              <a:t>	</a:t>
            </a:r>
            <a:r>
              <a:rPr b="1" lang="nb-NO" sz="1800" spc="-1" strike="noStrike">
                <a:solidFill>
                  <a:srgbClr val="000000"/>
                </a:solidFill>
                <a:latin typeface="Arial"/>
              </a:rPr>
              <a:t>AVKALL PÅ STRAFF</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gi avkall på straff selv om straff kunne komme til anvendelse, på eget skjønn eller etter anmodning fra den ikke-feilende side.</a:t>
            </a:r>
            <a:endParaRPr b="1"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81. TURNERINGSLEDERENS PLIKTER OG MYNDIGHET</a:t>
            </a:r>
            <a:endParaRPr b="1" i="1" lang="en-US" sz="2800" spc="-1" strike="noStrike">
              <a:solidFill>
                <a:srgbClr val="000000"/>
              </a:solidFill>
              <a:latin typeface="Arial"/>
            </a:endParaRPr>
          </a:p>
        </p:txBody>
      </p:sp>
      <p:sp>
        <p:nvSpPr>
          <p:cNvPr id="5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9.</a:t>
            </a:r>
            <a:r>
              <a:rPr b="1" lang="nb-NO" sz="1800" spc="-1" strike="noStrike">
                <a:solidFill>
                  <a:srgbClr val="000000"/>
                </a:solidFill>
                <a:latin typeface="Arial"/>
              </a:rPr>
              <a:t>	</a:t>
            </a:r>
            <a:r>
              <a:rPr b="1" lang="nb-NO" sz="1800" spc="-1" strike="noStrike">
                <a:solidFill>
                  <a:srgbClr val="000000"/>
                </a:solidFill>
                <a:latin typeface="Arial"/>
              </a:rPr>
              <a:t>TVISTEMÅ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bilegge tvistemål og henvise omtvistede spørsmål til det rette utvalg når dette er nødvendi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0. REGNSKA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samle inn scorene og sette opp liste over resultat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1. RAPPORT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rapportere resultatene til den arrangerende organisasjon slik at de kan bli offisielt registrert.</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DELEGERING AV PLIKT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kan delegere enhver plikt som er nevnt under pkt. C ovenfor, men blir ikke dermed fritatt for ansvaret for at de blir korrekt utført.</a:t>
            </a:r>
            <a:endParaRPr b="1"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82. KORRIGERING AV FEIL FREMGANGSMÅTE</a:t>
            </a:r>
            <a:endParaRPr b="1" i="1" lang="en-US" sz="2800" spc="-1" strike="noStrike">
              <a:solidFill>
                <a:srgbClr val="000000"/>
              </a:solidFill>
              <a:latin typeface="Arial"/>
            </a:endParaRPr>
          </a:p>
        </p:txBody>
      </p:sp>
      <p:sp>
        <p:nvSpPr>
          <p:cNvPr id="5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URNERINGSLEDERENS PLIK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er turneringslederens plikt å korrigere feil i fremgangsmåten og sørge for en avvikling av spillet som ikke står i strid med lovene.</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KORRIGERING AV FEIL</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 å korrigere en feil i fremgangsmåten kan turneringsleder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FASTSETTE JUSTERT RESULT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Fastsette et justert resultat i samsvar med lov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ASTSETTE SÆRSKILT SPILLETI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Utsette eller forlange at en bestemt mappe blir spilt.</a:t>
            </a:r>
            <a:endParaRPr b="1"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82. KORRIGERING AV FEIL FREMGANGSMÅTE</a:t>
            </a:r>
            <a:endParaRPr b="1" i="1" lang="en-US" sz="2800" spc="-1" strike="noStrike">
              <a:solidFill>
                <a:srgbClr val="000000"/>
              </a:solidFill>
              <a:latin typeface="Arial"/>
            </a:endParaRPr>
          </a:p>
        </p:txBody>
      </p:sp>
      <p:sp>
        <p:nvSpPr>
          <p:cNvPr id="6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FEIL BEGÅTT AV TURNERINGSLEDER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turneringslederen har truffet en avgjørelse, som han selv eller en eventuell hovedturneringsleder** senere finner ukorrekt, og ingen form for korrigering vil gjøre det mulig å regne ut poengene for mappen på normal måte, skal TL fastsette poeng direkte, og i så henseende betrakte begge sider som ikke-feilende.</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 I større turneringer hvor det er flere turneringsledere, skal én turneringsleder være hovedansvarlig, mens de andre er hans assistenter.</a:t>
            </a:r>
            <a:endParaRPr b="1"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83. ORIENTERE OM RETTEN TIL Å APPELLERE</a:t>
            </a:r>
            <a:endParaRPr b="1" i="1" lang="en-US" sz="2800" spc="-1" strike="noStrike">
              <a:solidFill>
                <a:srgbClr val="000000"/>
              </a:solidFill>
              <a:latin typeface="Arial"/>
            </a:endParaRPr>
          </a:p>
        </p:txBody>
      </p:sp>
      <p:sp>
        <p:nvSpPr>
          <p:cNvPr id="62" name="PlaceHolder 2"/>
          <p:cNvSpPr>
            <a:spLocks noGrp="1"/>
          </p:cNvSpPr>
          <p:nvPr>
            <p:ph/>
          </p:nvPr>
        </p:nvSpPr>
        <p:spPr>
          <a:xfrm>
            <a:off x="990720" y="2133720"/>
            <a:ext cx="7162560" cy="41148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Hvis turneringslederen mener at det vil være på sin plass å få overprøvet sin egen avgjørelse om et saksforhold, eller en anvendelse av skjønn </a:t>
            </a:r>
            <a:r>
              <a:rPr b="0" i="1" lang="nb-NO" sz="2000" spc="-1" strike="noStrike">
                <a:solidFill>
                  <a:srgbClr val="000000"/>
                </a:solidFill>
                <a:latin typeface="Arial"/>
              </a:rPr>
              <a:t>(som for eksempel når TL tildeler et justert resultat ifølge §12)</a:t>
            </a:r>
            <a:r>
              <a:rPr b="1" lang="nb-NO" sz="2000" spc="-1" strike="noStrike">
                <a:solidFill>
                  <a:srgbClr val="000000"/>
                </a:solidFill>
                <a:latin typeface="Arial"/>
              </a:rPr>
              <a:t>, skal TL gi vedkommende deltager orientering om retten til å appellere.</a:t>
            </a:r>
            <a:endParaRPr b="1"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09T18:09:53Z</dcterms:created>
  <dc:creator>Kirsten Rognstad</dc:creator>
  <dc:description/>
  <dc:language>en-US</dc:language>
  <cp:lastModifiedBy>Per Nordland</cp:lastModifiedBy>
  <dcterms:modified xsi:type="dcterms:W3CDTF">2001-01-27T16:58:21Z</dcterms:modified>
  <cp:revision>4</cp:revision>
  <dc:subject/>
  <dc:title>§80. ARRANGERENDE ORGANISASJON</dc:title>
</cp:coreProperties>
</file>