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ABCE-C503-4A4C-9408-5CEFD2C6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3981-DF60-4550-9089-8D8587F2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13AE-02AE-462E-B4B4-8641CFFC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A268-8287-4E23-AD53-03CD73B8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D493-B4E4-42ED-B156-B577885C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38A3-1C75-48C9-A2B7-E90A70EB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C6C2-0AD3-48F1-AB0A-62111C0B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87B-5130-449B-A966-E2D33572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F1A-98C0-4CF1-AAD6-1F0094DB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98E-4D16-4652-B17E-A156B23F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F1AA-EE1E-4AA2-88C0-52F0F2B2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3C2-EA19-45C5-BC3F-E0ECCF96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C38D-B3FC-41D7-BB95-380810B687F3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cbl.org/info/laws97/node8.html#law26" TargetMode="External"/><Relationship Id="rId2" Type="http://schemas.openxmlformats.org/officeDocument/2006/relationships/hyperlink" Target="http://www.acbl.org/info/laws97/node8.html#law25" TargetMode="External"/><Relationship Id="rId3" Type="http://schemas.openxmlformats.org/officeDocument/2006/relationships/hyperlink" Target="http://www.acbl.org/info/laws97/node8.html#law25" TargetMode="External"/><Relationship Id="rId4" Type="http://schemas.openxmlformats.org/officeDocument/2006/relationships/hyperlink" Target="http://www.acbl.org/info/laws97/node8.html#law23" TargetMode="External"/><Relationship Id="rId5" Type="http://schemas.openxmlformats.org/officeDocument/2006/relationships/hyperlink" Target="http://www.acbl.org/info/laws97/node8.html#law26" TargetMode="External"/><Relationship Id="rId6" Type="http://schemas.openxmlformats.org/officeDocument/2006/relationships/slide" Target=""/><Relationship Id="rId7" Type="http://schemas.openxmlformats.org/officeDocument/2006/relationships/hyperlink" Target="http://www.acbl.org/info/laws97/node7.html#law16" TargetMode="External"/><Relationship Id="rId8" Type="http://schemas.openxmlformats.org/officeDocument/2006/relationships/hyperlink" Target="http://www.acbl.org/info/laws97/node8.html#law31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bl.org/info/laws97/node9.html#law50" TargetMode="External"/><Relationship Id="rId2" Type="http://schemas.openxmlformats.org/officeDocument/2006/relationships/hyperlink" Target="http://www.acbl.org/info/laws97/node7.html#law16" TargetMode="External"/><Relationship Id="rId3" Type="http://schemas.openxmlformats.org/officeDocument/2006/relationships/hyperlink" Target="http://www.acbl.org/info/laws97/node9.html#law43" TargetMode="External"/><Relationship Id="rId4" Type="http://schemas.openxmlformats.org/officeDocument/2006/relationships/hyperlink" Target="http://www.acbl.org/info/laws97/node7.html#law16" TargetMode="External"/><Relationship Id="rId5" Type="http://schemas.openxmlformats.org/officeDocument/2006/relationships/hyperlink" Target="http://www.acbl.org/info/laws97/node7.html#law12" TargetMode="External"/><Relationship Id="rId6" Type="http://schemas.openxmlformats.org/officeDocument/2006/relationships/hyperlink" Target="http://www.acbl.org/info/laws97/node7.html#law12" TargetMode="External"/><Relationship Id="rId7" Type="http://schemas.openxmlformats.org/officeDocument/2006/relationships/hyperlink" Target="http://www.acbl.org/info/laws97/node9.html#law62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62360" y="85867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8555040"/>
            <a:ext cx="525132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ording to Law 23, director may adjust score if a mandatory Pass damages non-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, and he deems that the offender could have known this at the time of the irregular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3880" y="2603520"/>
            <a:ext cx="444600" cy="291960"/>
          </a:xfrm>
          <a:prstGeom prst="octagon">
            <a:avLst>
              <a:gd name="adj" fmla="val 2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444600" cy="29232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838080"/>
            <a:ext cx="1676520" cy="38124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advertent call corr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ithout pause for thought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28560" y="14479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295280"/>
            <a:ext cx="1523880" cy="381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de a subsequent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440" y="12193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99480" y="16765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76560" y="1295280"/>
            <a:ext cx="976320" cy="3049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s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leg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560" y="120636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320" y="1600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07880" y="15238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1295280"/>
            <a:ext cx="10666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tands with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enal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981080"/>
            <a:ext cx="10666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aw prev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57400" y="2616120"/>
            <a:ext cx="1357200" cy="27936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ther changes of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14479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447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600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1008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2971800"/>
            <a:ext cx="1434960" cy="5461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tended his call 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at offender ’s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67280" y="3429000"/>
            <a:ext cx="15177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ithdraw his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3822840"/>
            <a:ext cx="1523880" cy="368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oe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ept 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419720"/>
            <a:ext cx="15238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is cance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160" y="37339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160" y="29718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520" y="28954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99680" y="406404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02920" y="32767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84000" y="35686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84000" y="41781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9520" y="3200400"/>
            <a:ext cx="30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65160" y="3505320"/>
            <a:ext cx="334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63920" y="3200400"/>
            <a:ext cx="6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9568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67280" y="3962520"/>
            <a:ext cx="15112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00800" y="4584600"/>
            <a:ext cx="685800" cy="21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3048120"/>
            <a:ext cx="1523880" cy="52056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lled before attention 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rawn to the infrac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3276720"/>
            <a:ext cx="6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09880" y="3809880"/>
            <a:ext cx="14479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ithout penal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67280" y="2971800"/>
            <a:ext cx="1523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876920"/>
            <a:ext cx="1523880" cy="3045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as 1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ll leg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257800"/>
            <a:ext cx="596880" cy="29196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92880" y="5257800"/>
            <a:ext cx="596880" cy="291960"/>
          </a:xfrm>
          <a:prstGeom prst="octagon">
            <a:avLst>
              <a:gd name="adj" fmla="val 2416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6172200"/>
            <a:ext cx="1600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ust 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en next it is his 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5168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5168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160" y="48006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5280" y="501660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90480" y="5245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5118120"/>
            <a:ext cx="1282680" cy="29196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ffend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6070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6070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6159600"/>
            <a:ext cx="1524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49528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0069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7074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60069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7074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5168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5168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952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518148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6781680"/>
            <a:ext cx="609840" cy="216000"/>
          </a:xfrm>
          <a:custGeom>
            <a:avLst/>
            <a:gdLst>
              <a:gd name="textAreaLeft" fmla="*/ 0 w 609840"/>
              <a:gd name="textAreaRight" fmla="*/ 610200 w 6098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6692760"/>
            <a:ext cx="7617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6692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311880"/>
            <a:ext cx="228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65530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4720" y="6159600"/>
            <a:ext cx="1511280" cy="39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aw prev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6540480"/>
            <a:ext cx="1600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6540480"/>
            <a:ext cx="15242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72262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76360" y="76834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76360" y="714996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7315200"/>
            <a:ext cx="1517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ing side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ceive no score gr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an average min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7848720"/>
            <a:ext cx="151776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n-offending 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ceives the s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hieved at 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37040" y="824220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7620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191120" y="7467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8153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76960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714996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7238880"/>
            <a:ext cx="152388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7772400"/>
            <a:ext cx="1523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08240" y="824220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8153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7620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7238880"/>
            <a:ext cx="160020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777240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6324480"/>
            <a:ext cx="0" cy="22100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905120"/>
            <a:ext cx="15238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1752480"/>
            <a:ext cx="15112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90760" y="2362320"/>
            <a:ext cx="685800" cy="215640"/>
          </a:xfrm>
          <a:custGeom>
            <a:avLst/>
            <a:gdLst>
              <a:gd name="textAreaLeft" fmla="*/ 0 w 685800"/>
              <a:gd name="textAreaRight" fmla="*/ 686160 w 6858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812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2286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990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7558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4495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3276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3809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9372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9372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2438280"/>
            <a:ext cx="2057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2666880"/>
            <a:ext cx="3810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2438280"/>
            <a:ext cx="0" cy="228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762120"/>
            <a:ext cx="1892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director must first dec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case 1 or case 2 appl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1280" y="5651640"/>
            <a:ext cx="1523880" cy="36828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st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5651640"/>
            <a:ext cx="1517760" cy="36828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ke an other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including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40384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228600"/>
            <a:ext cx="58291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582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Law 25: Legal and Illegal Changes of Cal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62520" y="5270400"/>
            <a:ext cx="596880" cy="228600"/>
          </a:xfrm>
          <a:prstGeom prst="octagon">
            <a:avLst>
              <a:gd name="adj" fmla="val 2760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35120" y="5270400"/>
            <a:ext cx="596880" cy="228600"/>
          </a:xfrm>
          <a:prstGeom prst="octagon">
            <a:avLst>
              <a:gd name="adj" fmla="val 2760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7040" y="3289320"/>
            <a:ext cx="334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41403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41403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39751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2768760"/>
            <a:ext cx="1143000" cy="29196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os tur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3759120"/>
            <a:ext cx="114300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R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3759120"/>
            <a:ext cx="113652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3759120"/>
            <a:ext cx="106668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8240" y="4673520"/>
            <a:ext cx="106056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HO now 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79840" y="4673520"/>
            <a:ext cx="143496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HO now bids, X or 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4508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5727600"/>
            <a:ext cx="1289160" cy="901800"/>
          </a:xfrm>
          <a:prstGeom prst="octagon">
            <a:avLst>
              <a:gd name="adj" fmla="val 1492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, when 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to call,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peat deno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 the out of turn 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t any legal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30560" y="5727600"/>
            <a:ext cx="1206360" cy="914400"/>
          </a:xfrm>
          <a:prstGeom prst="octagon">
            <a:avLst>
              <a:gd name="adj" fmla="val 1492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, when 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to call,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ke a bid in 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ther denominati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ass, X or 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810252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9000" y="740412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9000" y="793764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6781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67564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679464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160" y="51814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4127400"/>
            <a:ext cx="1066680" cy="381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reviously call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58760" y="405144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58960" y="1536840"/>
            <a:ext cx="1663560" cy="3744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 ’s LHO ca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fter the out of turn bi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35120" y="175896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3880" y="17524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120" y="14479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2146320"/>
            <a:ext cx="1663920" cy="3808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oe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ept the out of turn bid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236844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36280" y="25146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93360" y="23623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8600" y="20574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2755800"/>
            <a:ext cx="15238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uction reverts to 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os turn it was t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1917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1463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no penalt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120" y="19051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27558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ut of 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 is cance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2893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2320" y="3365640"/>
            <a:ext cx="44424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3365640"/>
            <a:ext cx="44460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365640"/>
            <a:ext cx="44460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4280040"/>
            <a:ext cx="60984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4280040"/>
            <a:ext cx="60984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8240" y="6121440"/>
            <a:ext cx="113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, when 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to call, m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peat his 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6870600"/>
            <a:ext cx="11430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no restri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70200" y="6870600"/>
            <a:ext cx="12826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ust pass when n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t is his turn t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24080" y="6870600"/>
            <a:ext cx="121284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ust pass when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t is his turn t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42800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70400" y="6121440"/>
            <a:ext cx="12067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, when 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to call,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ke any legal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64280" y="6870600"/>
            <a:ext cx="121284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ust pass when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t is his turn t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17600" y="7480440"/>
            <a:ext cx="1212840" cy="36828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16160" y="8013600"/>
            <a:ext cx="1212840" cy="33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4508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4889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48895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4127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3975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0920" y="359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3975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359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359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4480" y="66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27440" y="66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2527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290844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14800" y="29084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306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32893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32893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32893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28840" y="428004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1280" y="44956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4813200"/>
            <a:ext cx="685800" cy="21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La</a:t>
            </a: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 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45086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27440" y="786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8458200"/>
            <a:ext cx="52578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ording to </a:t>
            </a: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Law 23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, director may adjust score if a mandatory Pass damages non-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, and he deems that the offender could have known this at the time of the irregular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7391520"/>
            <a:ext cx="0" cy="10666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5270400"/>
            <a:ext cx="137160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s the out of turn call 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onventionnal Pass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56516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66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5880" y="54100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240" y="565164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1523880"/>
            <a:ext cx="1295280" cy="38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no penalt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64280" y="7480440"/>
            <a:ext cx="1212840" cy="36828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4280" y="8013600"/>
            <a:ext cx="1212840" cy="33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786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43600" y="66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52880" y="7099200"/>
            <a:ext cx="304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27440" y="74041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74041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740412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54230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19520" y="519444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51944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7080" y="51944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549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549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7099200"/>
            <a:ext cx="228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44560" y="774720"/>
            <a:ext cx="1663560" cy="5205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id an </a:t>
            </a:r>
            <a:r>
              <a:rPr b="1" lang="fr-CA" sz="1000" spc="-1" strike="noStrike">
                <a:solidFill>
                  <a:srgbClr val="000000"/>
                </a:solidFill>
                <a:latin typeface="Arial"/>
              </a:rPr>
              <a:t>opponent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, wh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it was, call af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ut of rotation bid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5080" y="6858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8242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572000" y="8089920"/>
            <a:ext cx="596880" cy="216000"/>
          </a:xfrm>
          <a:custGeom>
            <a:avLst/>
            <a:gdLst>
              <a:gd name="textAreaLeft" fmla="*/ 360 w 596880"/>
              <a:gd name="textAreaRight" fmla="*/ 59760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349" y="0"/>
                </a:lnTo>
                <a:lnTo>
                  <a:pt x="21600" y="10800"/>
                </a:lnTo>
                <a:lnTo>
                  <a:pt x="153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Law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8242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76520" y="1295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12952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990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762120"/>
            <a:ext cx="1295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ut of 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 is cance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768240"/>
            <a:ext cx="1295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no penalt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76920" y="1523880"/>
            <a:ext cx="14349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out of turn 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57800" y="2146320"/>
            <a:ext cx="685800" cy="21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62720" y="2070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1295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3880" y="10666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24120" y="87948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582948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Law 31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: Bid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(or conventionnal pass)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Out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14440" y="8337600"/>
            <a:ext cx="1428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43240" y="8337600"/>
            <a:ext cx="217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8240" y="2673360"/>
            <a:ext cx="1670040" cy="52704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either member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ing side named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layed to the nex tric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55760" y="2108160"/>
            <a:ext cx="97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82840" y="4737240"/>
            <a:ext cx="2660760" cy="36828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ow many tricks were won by 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, including revoke and subsequent trick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84560" y="444672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0560" y="542304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84800" y="542304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62520" y="542304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5867280"/>
            <a:ext cx="0" cy="212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0960" y="5867280"/>
            <a:ext cx="0" cy="212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44760" y="6458040"/>
            <a:ext cx="749160" cy="215640"/>
          </a:xfrm>
          <a:custGeom>
            <a:avLst/>
            <a:gdLst>
              <a:gd name="textAreaLeft" fmla="*/ 0 w 749160"/>
              <a:gd name="textAreaRight" fmla="*/ 749520 w 7491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w 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798840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800748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30560" y="800748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8800" y="5546880"/>
            <a:ext cx="10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92720" y="6464160"/>
            <a:ext cx="24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21320" y="6469200"/>
            <a:ext cx="0" cy="13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1480" y="619776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2360" y="66549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95320" y="72388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27600" y="6216480"/>
            <a:ext cx="1359000" cy="41292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Arial"/>
              </a:rPr>
              <a:t>Offender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(not partn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on the revoke tric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5262480"/>
            <a:ext cx="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83240" y="5262480"/>
            <a:ext cx="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2280" y="199404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26880" y="46483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1640" y="612144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1640" y="68580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000" y="76201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8240" y="3435480"/>
            <a:ext cx="1670040" cy="52056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either member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ing side ma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r accepted a claim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8240" y="2082960"/>
            <a:ext cx="1670040" cy="27936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as revoke on 1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tric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8240" y="4203720"/>
            <a:ext cx="16700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  is not establis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78280" y="2057400"/>
            <a:ext cx="1511280" cy="38088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re all 4 hands 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 the boar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56200" y="3124080"/>
            <a:ext cx="14349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e may not choose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lay possib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uggested by the revo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71800" y="2679840"/>
            <a:ext cx="1517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ricks stand as play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 revoke penalt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8240" y="4406760"/>
            <a:ext cx="167004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 must corr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revo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8240" y="5029200"/>
            <a:ext cx="1670040" cy="46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rds played after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 may be repla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480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2280" y="33400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2280" y="25909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68400" y="19810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38480" y="3662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440800" y="223524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40800" y="364500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40800" y="28828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36080" y="24382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84000" y="23493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84000" y="39495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84000" y="31878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79480" y="21970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95280" y="7785000"/>
            <a:ext cx="1752840" cy="749520"/>
          </a:xfrm>
          <a:prstGeom prst="rightArrow">
            <a:avLst>
              <a:gd name="adj1" fmla="val 50000"/>
              <a:gd name="adj2" fmla="val 5803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umber of tricks transferred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o non-offending 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2887560"/>
            <a:ext cx="0" cy="77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56200" y="2057400"/>
            <a:ext cx="14349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 must 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orr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56200" y="2654280"/>
            <a:ext cx="1434960" cy="31752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n play 2 legal c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00600" y="259092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6242040"/>
            <a:ext cx="15937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ll cards expose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ffending side 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jor penalty c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3880" y="549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6019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2640" y="621036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35520" y="24382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8120" y="367020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782964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8240" y="5715000"/>
            <a:ext cx="1670040" cy="30492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 i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2640" y="563868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74720" y="7067520"/>
            <a:ext cx="15876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exposed c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23880" y="685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7130880"/>
            <a:ext cx="749520" cy="216000"/>
          </a:xfrm>
          <a:custGeom>
            <a:avLst/>
            <a:gdLst>
              <a:gd name="textAreaLeft" fmla="*/ 0 w 749520"/>
              <a:gd name="textAreaRight" fmla="*/ 749880 w 749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392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43400"/>
            <a:ext cx="1511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rick stands as play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4038480"/>
            <a:ext cx="15112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t may no lo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 corr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76720" y="3809880"/>
            <a:ext cx="1511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 is establis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791320" y="7835760"/>
            <a:ext cx="630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21120" y="304812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95680" y="2209680"/>
            <a:ext cx="554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8280" y="220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3880" y="2374920"/>
            <a:ext cx="180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3880" y="39751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32360" y="4127400"/>
            <a:ext cx="782640" cy="216000"/>
          </a:xfrm>
          <a:custGeom>
            <a:avLst/>
            <a:gdLst>
              <a:gd name="textAreaLeft" fmla="*/ 0 w 782640"/>
              <a:gd name="textAreaRight" fmla="*/ 783000 w 782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Law 43B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80080" y="4216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29000" y="52578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60960" y="5105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60960" y="5257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8480" y="458460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2720" y="76201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120" y="1460520"/>
            <a:ext cx="1676160" cy="38088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a member of 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 called on the next de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3880" y="184140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2400" y="13842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38280" y="1600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2720" y="5867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23880" y="320040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15000" y="29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2120" y="838080"/>
            <a:ext cx="1676160" cy="38124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as attention drawn af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round has end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38280" y="990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3160" y="7621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3880" y="121932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84000" y="18288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599840" y="12193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40800" y="160020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61600" y="990720"/>
            <a:ext cx="41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38280" y="28954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3828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10080" y="3733920"/>
            <a:ext cx="762120" cy="215640"/>
          </a:xfrm>
          <a:custGeom>
            <a:avLst/>
            <a:gdLst>
              <a:gd name="textAreaLeft" fmla="*/ 0 w 762120"/>
              <a:gd name="textAreaRight" fmla="*/ 762480 w 7621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1500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00600" y="838080"/>
            <a:ext cx="16635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 penalty is assessed f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revoke by the s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layer in the same suit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or failure to play any faced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rd, including dummy ’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62320" y="72453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362320" y="65595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2280" y="8564400"/>
            <a:ext cx="5632200" cy="42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* Director shall assign an adjusted score (see </a:t>
            </a: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Law </a:t>
            </a: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12C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) when he deems that after any establis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, including those not subject to penalty, the non offending side is insufficiently compensa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838080"/>
            <a:ext cx="1517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ricks stand as play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 revoke penalt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71800" y="1447920"/>
            <a:ext cx="1517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ricks stand as play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 revoke penalt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00600" y="6934320"/>
            <a:ext cx="1523880" cy="672840"/>
          </a:xfrm>
          <a:prstGeom prst="roundRect">
            <a:avLst>
              <a:gd name="adj" fmla="val 1238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 made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ubsequent trick with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rd that could have b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layed to the revoke tric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419720" y="72388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19720" y="7238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62720" y="6629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89200" y="8794800"/>
            <a:ext cx="391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Laws 62 to 64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: The Rev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21:43:16Z</dcterms:created>
  <dc:creator>Infocentre</dc:creator>
  <dc:description/>
  <dc:language>en-US</dc:language>
  <cp:lastModifiedBy>Per Nordland</cp:lastModifiedBy>
  <dcterms:modified xsi:type="dcterms:W3CDTF">2002-07-14T21:50:09Z</dcterms:modified>
  <cp:revision>13</cp:revision>
  <dc:subject/>
  <dc:title>Aucun titre de diaposi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es documents\Laval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