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E4AA-4A64-4516-9323-75FE112E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3C2D-AFC2-4877-8415-C9E83925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9EED-E162-4B2B-9B72-A332775A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7EC3-47E9-4EF3-811D-E764C319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035-8709-4492-A35C-1FB9D2C5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3C10-B587-4F5F-AF9A-1DE1F419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3394-6BEE-429F-9808-F1A22C20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9BE5-5E30-4D20-A649-3B28D068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9448-B34D-4F66-8607-5B441EEF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8A58-31EB-44E0-A4C6-2D3A0039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8CCB-AE9D-4E91-82AE-B3E99D86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1E91-7056-4074-87E0-828EEE74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82C8-18D4-4606-8A18-01719CBA2A0B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62360" y="85867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8555040"/>
            <a:ext cx="525132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ording to Law 23, director may adjust score if a mandatory Pass damages non-off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ide, and he deems that the offender could have known this at the time of the irregular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3880" y="2603520"/>
            <a:ext cx="444600" cy="291960"/>
          </a:xfrm>
          <a:prstGeom prst="octagon">
            <a:avLst>
              <a:gd name="adj" fmla="val 2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444600" cy="29232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838080"/>
            <a:ext cx="1676520" cy="38124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nadvertent call correc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ithout pause for thought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28560" y="14479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295280"/>
            <a:ext cx="1523880" cy="3812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de a subsequent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440" y="12193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99480" y="16765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76560" y="1295280"/>
            <a:ext cx="976320" cy="3049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s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leg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560" y="120636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320" y="16002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07880" y="15238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1295280"/>
            <a:ext cx="10666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tands with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enal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981080"/>
            <a:ext cx="106668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appli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law prev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57400" y="2616120"/>
            <a:ext cx="1357200" cy="27936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ther changes of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144792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1447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600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10080" y="220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2971800"/>
            <a:ext cx="1434960" cy="5461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ntended his call 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at offender ’s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67280" y="3429000"/>
            <a:ext cx="15177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LHO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ithdraw his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3822840"/>
            <a:ext cx="1523880" cy="368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oes 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ept 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419720"/>
            <a:ext cx="15238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is cance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160" y="37339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160" y="29718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520" y="289548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99680" y="406404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02920" y="32767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84000" y="35686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84000" y="41781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9520" y="3200400"/>
            <a:ext cx="30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65160" y="3505320"/>
            <a:ext cx="334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63920" y="3200400"/>
            <a:ext cx="6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9568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67280" y="3962520"/>
            <a:ext cx="15112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00800" y="4584600"/>
            <a:ext cx="685800" cy="216000"/>
          </a:xfrm>
          <a:custGeom>
            <a:avLst/>
            <a:gdLst>
              <a:gd name="textAreaLeft" fmla="*/ 0 w 685800"/>
              <a:gd name="textAreaRight" fmla="*/ 686160 w 685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3048120"/>
            <a:ext cx="1523880" cy="52056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lled before attention 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rawn to the infract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3276720"/>
            <a:ext cx="6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09880" y="3809880"/>
            <a:ext cx="14479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ithout penal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67280" y="2971800"/>
            <a:ext cx="1523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876920"/>
            <a:ext cx="1523880" cy="3045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as 1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ll leg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257800"/>
            <a:ext cx="596880" cy="29196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92880" y="5257800"/>
            <a:ext cx="596880" cy="291960"/>
          </a:xfrm>
          <a:prstGeom prst="octagon">
            <a:avLst>
              <a:gd name="adj" fmla="val 2416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6172200"/>
            <a:ext cx="1600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ust 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en next it is his 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5168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5168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160" y="48006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5280" y="501660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90480" y="52452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5118120"/>
            <a:ext cx="1282680" cy="29196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ffend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6070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6070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6159600"/>
            <a:ext cx="1524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ding proc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49528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60069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7074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60069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7074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5168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5168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4952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518148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6781680"/>
            <a:ext cx="609840" cy="216000"/>
          </a:xfrm>
          <a:custGeom>
            <a:avLst/>
            <a:gdLst>
              <a:gd name="textAreaLeft" fmla="*/ 0 w 609840"/>
              <a:gd name="textAreaRight" fmla="*/ 610200 w 6098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6692760"/>
            <a:ext cx="7617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66927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311880"/>
            <a:ext cx="2286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655308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4720" y="6159600"/>
            <a:ext cx="1511280" cy="39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appli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law prev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6540480"/>
            <a:ext cx="1600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6540480"/>
            <a:ext cx="15242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72262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76360" y="76834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76360" y="714996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7315200"/>
            <a:ext cx="1517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ing side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ceive no score gre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an average min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7848720"/>
            <a:ext cx="151776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n-offending 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ceives the s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hieved at 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37040" y="8242200"/>
            <a:ext cx="596880" cy="21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7620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191120" y="7467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8153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76960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714996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7238880"/>
            <a:ext cx="1523880" cy="38124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7772400"/>
            <a:ext cx="1523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08240" y="8242200"/>
            <a:ext cx="596880" cy="21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8153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7620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7238880"/>
            <a:ext cx="1600200" cy="38124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7772400"/>
            <a:ext cx="1600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6324480"/>
            <a:ext cx="0" cy="22100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905120"/>
            <a:ext cx="15238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1752480"/>
            <a:ext cx="15112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90760" y="2362320"/>
            <a:ext cx="685800" cy="215640"/>
          </a:xfrm>
          <a:custGeom>
            <a:avLst/>
            <a:gdLst>
              <a:gd name="textAreaLeft" fmla="*/ 0 w 685800"/>
              <a:gd name="textAreaRight" fmla="*/ 686160 w 6858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8120" y="4648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2286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990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7558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4495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3276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3809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93720" y="358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9372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2438280"/>
            <a:ext cx="2057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2666880"/>
            <a:ext cx="3810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2438280"/>
            <a:ext cx="0" cy="2286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95680" y="762120"/>
            <a:ext cx="1892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director must first dec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case 1 or case 2 appl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1280" y="5651640"/>
            <a:ext cx="1523880" cy="36828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l st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5651640"/>
            <a:ext cx="1517760" cy="36828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ke an other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(including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40384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8291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Law 25: Legal and Illegal Changes of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5:29:55Z</dcterms:created>
  <dc:creator>Laval Dubreuil</dc:creator>
  <dc:description/>
  <dc:language>en-US</dc:language>
  <cp:lastModifiedBy>Per Nordland</cp:lastModifiedBy>
  <dcterms:modified xsi:type="dcterms:W3CDTF">2002-07-14T21:50:26Z</dcterms:modified>
  <cp:revision>3</cp:revision>
  <dc:subject/>
  <dc:title>Présentation PowerPoint</dc:title>
</cp:coreProperties>
</file>